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png" ContentType="image/png"/>
  <Override PartName="/ppt/media/image23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5617" t="13514" r="67018" b="22975"/>
          <a:stretch/>
        </p:blipFill>
        <p:spPr>
          <a:xfrm>
            <a:off x="0" y="357120"/>
            <a:ext cx="2844720" cy="650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Users\joseba\Desktop\DOCUMENTOS TRABAJO\LOGO\logo color.tif"/>
          <p:cNvPicPr/>
          <p:nvPr/>
        </p:nvPicPr>
        <p:blipFill>
          <a:blip r:embed="rId3"/>
          <a:stretch/>
        </p:blipFill>
        <p:spPr>
          <a:xfrm>
            <a:off x="7572240" y="500040"/>
            <a:ext cx="1357560" cy="701640"/>
          </a:xfrm>
          <a:prstGeom prst="rect">
            <a:avLst/>
          </a:prstGeom>
          <a:ln w="0">
            <a:noFill/>
          </a:ln>
        </p:spPr>
      </p:pic>
      <p:sp>
        <p:nvSpPr>
          <p:cNvPr id="2" name="6 Rectángulo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Calibri"/>
              </a:rPr>
              <a:t>Formalización y Transferencia del Conocimiento no Formal en las Pymes del Met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slide" Target="slide6.xml"/><Relationship Id="rId8" Type="http://schemas.openxmlformats.org/officeDocument/2006/relationships/image" Target="../media/image24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slide" Target="slide6.xml"/><Relationship Id="rId8" Type="http://schemas.openxmlformats.org/officeDocument/2006/relationships/image" Target="../media/image24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slide" Target="slide6.xml"/><Relationship Id="rId8" Type="http://schemas.openxmlformats.org/officeDocument/2006/relationships/image" Target="../media/image24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slide" Target="slide6.xm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2.png"/><Relationship Id="rId6" Type="http://schemas.openxmlformats.org/officeDocument/2006/relationships/image" Target="../media/image24.png"/><Relationship Id="rId7" Type="http://schemas.openxmlformats.org/officeDocument/2006/relationships/image" Target="../media/image33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2.png"/><Relationship Id="rId8" Type="http://schemas.openxmlformats.org/officeDocument/2006/relationships/slide" Target="slide6.xml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slide" Target="slide6.xml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2.png"/><Relationship Id="rId8" Type="http://schemas.openxmlformats.org/officeDocument/2006/relationships/slide" Target="slide6.xml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0 Rectángulo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1 Rectángulo"/>
          <p:cNvSpPr/>
          <p:nvPr/>
        </p:nvSpPr>
        <p:spPr>
          <a:xfrm>
            <a:off x="0" y="5692680"/>
            <a:ext cx="9144000" cy="665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joseba\Desktop\DOCUMENTOS TRABAJO\PROYECTOS EUROPEOS\Kimet\Kimet_Multimedia\LINGOTES1.JPG"/>
          <p:cNvPicPr/>
          <p:nvPr/>
        </p:nvPicPr>
        <p:blipFill>
          <a:blip r:embed="rId2"/>
          <a:srcRect l="23475" t="39152" r="66" b="56069"/>
          <a:stretch/>
        </p:blipFill>
        <p:spPr>
          <a:xfrm>
            <a:off x="0" y="2286000"/>
            <a:ext cx="9144000" cy="428760"/>
          </a:xfrm>
          <a:prstGeom prst="rect">
            <a:avLst/>
          </a:prstGeom>
          <a:ln w="0">
            <a:noFill/>
          </a:ln>
        </p:spPr>
      </p:pic>
      <p:sp>
        <p:nvSpPr>
          <p:cNvPr id="78" name="17 Rectángulo"/>
          <p:cNvSpPr/>
          <p:nvPr/>
        </p:nvSpPr>
        <p:spPr>
          <a:xfrm>
            <a:off x="0" y="1382760"/>
            <a:ext cx="9144000" cy="842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joseba\Desktop\pt.gif"/>
          <p:cNvPicPr/>
          <p:nvPr/>
        </p:nvPicPr>
        <p:blipFill>
          <a:blip r:embed="rId3"/>
          <a:stretch/>
        </p:blipFill>
        <p:spPr>
          <a:xfrm>
            <a:off x="0" y="1379520"/>
            <a:ext cx="3286080" cy="835200"/>
          </a:xfrm>
          <a:prstGeom prst="rect">
            <a:avLst/>
          </a:prstGeom>
          <a:ln w="0">
            <a:noFill/>
          </a:ln>
        </p:spPr>
      </p:pic>
      <p:sp>
        <p:nvSpPr>
          <p:cNvPr id="80" name="19 Rectángulo"/>
          <p:cNvSpPr/>
          <p:nvPr/>
        </p:nvSpPr>
        <p:spPr>
          <a:xfrm>
            <a:off x="0" y="3643200"/>
            <a:ext cx="9144000" cy="581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18 Rectángulo"/>
          <p:cNvSpPr/>
          <p:nvPr/>
        </p:nvSpPr>
        <p:spPr>
          <a:xfrm>
            <a:off x="357120" y="3643200"/>
            <a:ext cx="87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2f2f2"/>
                </a:solidFill>
                <a:latin typeface="Calibri"/>
              </a:rPr>
              <a:t>Conocimiento no Formal en Acer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20 Rectángulo"/>
          <p:cNvSpPr/>
          <p:nvPr/>
        </p:nvSpPr>
        <p:spPr>
          <a:xfrm>
            <a:off x="0" y="4286160"/>
            <a:ext cx="914400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1 Rectángulo"/>
          <p:cNvSpPr/>
          <p:nvPr/>
        </p:nvSpPr>
        <p:spPr>
          <a:xfrm>
            <a:off x="1143000" y="4273560"/>
            <a:ext cx="36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2f2f2"/>
                </a:solidFill>
                <a:latin typeface="Calibri"/>
              </a:rPr>
              <a:t>Preparación de Placas de Col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4"/>
          <a:srcRect l="15617" t="13514" r="65861" b="74447"/>
          <a:stretch/>
        </p:blipFill>
        <p:spPr>
          <a:xfrm>
            <a:off x="0" y="5691240"/>
            <a:ext cx="1643040" cy="66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oseba\Desktop\DOCUMENTOS TRABAJO\LOGO\logo color.tif"/>
          <p:cNvPicPr/>
          <p:nvPr/>
        </p:nvPicPr>
        <p:blipFill>
          <a:blip r:embed="rId5"/>
          <a:stretch/>
        </p:blipFill>
        <p:spPr>
          <a:xfrm>
            <a:off x="7000920" y="41400"/>
            <a:ext cx="2143080" cy="1109520"/>
          </a:xfrm>
          <a:prstGeom prst="rect">
            <a:avLst/>
          </a:prstGeom>
          <a:ln w="0">
            <a:noFill/>
          </a:ln>
        </p:spPr>
      </p:pic>
      <p:sp>
        <p:nvSpPr>
          <p:cNvPr id="86" name="12 Rectángulo"/>
          <p:cNvSpPr/>
          <p:nvPr/>
        </p:nvSpPr>
        <p:spPr>
          <a:xfrm>
            <a:off x="0" y="6429240"/>
            <a:ext cx="9144000" cy="295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2f2f2"/>
                </a:solidFill>
                <a:latin typeface="Calibri"/>
              </a:rPr>
              <a:t>Formalización y Transferencia del Conocimiento en las PYMES del M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7 Rectángulo"/>
          <p:cNvSpPr/>
          <p:nvPr/>
        </p:nvSpPr>
        <p:spPr>
          <a:xfrm>
            <a:off x="3863520" y="117144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4.- Colocación de Ladrill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17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253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18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256" name="1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19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259" name="1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20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262" name="20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21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265" name="21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23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268" name="23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24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25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26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27 Rectángulo"/>
          <p:cNvSpPr/>
          <p:nvPr/>
        </p:nvSpPr>
        <p:spPr>
          <a:xfrm>
            <a:off x="3071880" y="1714680"/>
            <a:ext cx="571500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Colocación de la reina y posteriormente los ladrillos bien ajustados uno detrás de otro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Para una unión correcta se impregna un poco con cemento el extremo de los ladrill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agujero por donde sale  el caldo queda centrado en la lingot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os ladrillos al ser de diferente hornada puede que no ajusten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vitar que el conjunto quede desajustado en las un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gilar que los ladrillos queden  “al ras” con la pla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28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275" name="28 Botón de acción: Inicio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7" name="COLOCACION_SONIDO.wmv" descr=""/>
          <p:cNvPicPr/>
          <p:nvPr/>
        </p:nvPicPr>
        <p:blipFill>
          <a:blip r:embed="rId9"/>
          <a:stretch/>
        </p:blipFill>
        <p:spPr>
          <a:xfrm>
            <a:off x="3071880" y="4572000"/>
            <a:ext cx="2705040" cy="2028960"/>
          </a:xfrm>
          <a:prstGeom prst="rect">
            <a:avLst/>
          </a:prstGeom>
          <a:ln w="0">
            <a:noFill/>
          </a:ln>
        </p:spPr>
      </p:pic>
      <p:pic>
        <p:nvPicPr>
          <p:cNvPr id="278" name="MASILLA2_OFF.wmv" descr=""/>
          <p:cNvPicPr/>
          <p:nvPr/>
        </p:nvPicPr>
        <p:blipFill>
          <a:blip r:embed="rId10"/>
          <a:stretch/>
        </p:blipFill>
        <p:spPr>
          <a:xfrm>
            <a:off x="6215040" y="4572000"/>
            <a:ext cx="2714760" cy="2036880"/>
          </a:xfrm>
          <a:prstGeom prst="rect">
            <a:avLst/>
          </a:prstGeom>
          <a:ln w="0">
            <a:noFill/>
          </a:ln>
        </p:spPr>
      </p:pic>
      <p:sp>
        <p:nvSpPr>
          <p:cNvPr id="279" name="1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7 Rectángulo"/>
          <p:cNvSpPr/>
          <p:nvPr/>
        </p:nvSpPr>
        <p:spPr>
          <a:xfrm>
            <a:off x="3865320" y="1171440"/>
            <a:ext cx="35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5.- Barrido y Soplado Superf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18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282" name="18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19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285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20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288" name="2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21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291" name="21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22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294" name="22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24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297" name="24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25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26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27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28 Rectángulo"/>
          <p:cNvSpPr/>
          <p:nvPr/>
        </p:nvSpPr>
        <p:spPr>
          <a:xfrm>
            <a:off x="3071880" y="1793880"/>
            <a:ext cx="57150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Proceso de distribución de arena en los espacios entre la placa y  ladrill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oplado superficial para la eliminación de arena sobrante de la plac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vitar introducción por los agujeros de los ladrillos la mayor cantidad de arena posible, pues más tarde habrá que sustraela con  el extractor de 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29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304" name="29 Botón de acción: Inicio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17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BARRER_RECORTE.wmv" descr=""/>
          <p:cNvPicPr/>
          <p:nvPr/>
        </p:nvPicPr>
        <p:blipFill>
          <a:blip r:embed="rId9"/>
          <a:stretch/>
        </p:blipFill>
        <p:spPr>
          <a:xfrm>
            <a:off x="4286160" y="4197240"/>
            <a:ext cx="32148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7 Rectángulo"/>
          <p:cNvSpPr/>
          <p:nvPr/>
        </p:nvSpPr>
        <p:spPr>
          <a:xfrm>
            <a:off x="3862800" y="11714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6.- Sellado con Masi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18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310" name="18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19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313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20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316" name="2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21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319" name="21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22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322" name="22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24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325" name="24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25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26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27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28 Rectángulo"/>
          <p:cNvSpPr/>
          <p:nvPr/>
        </p:nvSpPr>
        <p:spPr>
          <a:xfrm>
            <a:off x="3071880" y="1793880"/>
            <a:ext cx="5715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Proceso de sellado de juntas abiertas entre el ladrillo y la placa con pisé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conjunto tiene que quedar compacto sin ninguna fisu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licar el mínimo cemento posible, sobre todo en la área de apoyo de las lingoteras, pues el exceso de éste puede ser arrastrado por la colada (incrustaciones) e influir de manera crucial en la calidad de los lingo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o pisar la zona sellada hasta que seq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29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332" name="29 Botón de acción: Inicio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4" name="MASILLA_OFF.wmv" descr=""/>
          <p:cNvPicPr/>
          <p:nvPr/>
        </p:nvPicPr>
        <p:blipFill>
          <a:blip r:embed="rId9"/>
          <a:stretch/>
        </p:blipFill>
        <p:spPr>
          <a:xfrm>
            <a:off x="4334040" y="4286160"/>
            <a:ext cx="3085920" cy="2314800"/>
          </a:xfrm>
          <a:prstGeom prst="rect">
            <a:avLst/>
          </a:prstGeom>
          <a:ln w="0">
            <a:noFill/>
          </a:ln>
        </p:spPr>
      </p:pic>
      <p:sp>
        <p:nvSpPr>
          <p:cNvPr id="335" name="1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5 Rectángulo"/>
          <p:cNvSpPr/>
          <p:nvPr/>
        </p:nvSpPr>
        <p:spPr>
          <a:xfrm>
            <a:off x="3865320" y="1171440"/>
            <a:ext cx="40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7.- Limpieza Mediante Aire a Pre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18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338" name="18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19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341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20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344" name="2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21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347" name="21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22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350" name="22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24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353" name="24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25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26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27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28 Rectángulo"/>
          <p:cNvSpPr/>
          <p:nvPr/>
        </p:nvSpPr>
        <p:spPr>
          <a:xfrm>
            <a:off x="3071880" y="1793880"/>
            <a:ext cx="571500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Limpieza de los conductos por donde va a pasar la colada con aire comprimido, evitando así que la posible arena existente en los conductos se mezcle con la colada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probar que el cemento este seco antes de realizar el proceso de extracción del are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vitar personal cerca del proceso de limpieza de arena mediante aire a pres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29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360" name="29 Botón de acción: Inicio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14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5 Rectángulo"/>
          <p:cNvSpPr/>
          <p:nvPr/>
        </p:nvSpPr>
        <p:spPr>
          <a:xfrm>
            <a:off x="3846960" y="11714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8.- Colocación de Placa en los Carret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27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365" name="2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28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368" name="2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29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371" name="2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30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374" name="30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31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377" name="31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33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380" name="33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34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5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6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37 Rectángulo"/>
          <p:cNvSpPr/>
          <p:nvPr/>
        </p:nvSpPr>
        <p:spPr>
          <a:xfrm>
            <a:off x="3071880" y="1793880"/>
            <a:ext cx="57150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e procede a llevar la placa ya preparada a la zona de colocación del bebeder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probar que la zona del trayecto esta despej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probar que la placa queda nivelada en el carret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39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387" name="39 Botón de acción: Inicio" descr=""/>
            <p:cNvPicPr/>
            <p:nvPr/>
          </p:nvPicPr>
          <p:blipFill>
            <a:blip r:embed="rId7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14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TRANS_CARRETO_OFF.wmv" descr=""/>
          <p:cNvPicPr/>
          <p:nvPr/>
        </p:nvPicPr>
        <p:blipFill>
          <a:blip r:embed="rId8"/>
          <a:stretch/>
        </p:blipFill>
        <p:spPr>
          <a:xfrm>
            <a:off x="4390920" y="41432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27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392" name="2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28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395" name="2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29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398" name="2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31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401" name="31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33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404" name="33 Botón de acción: Documento" descr=""/>
            <p:cNvPicPr/>
            <p:nvPr/>
          </p:nvPicPr>
          <p:blipFill>
            <a:blip r:embed="rId5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34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5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6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7 Rectángulo"/>
          <p:cNvSpPr/>
          <p:nvPr/>
        </p:nvSpPr>
        <p:spPr>
          <a:xfrm>
            <a:off x="3071880" y="17938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1666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13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411" name="13 Botón de acción: Inicio" descr=""/>
            <p:cNvPicPr/>
            <p:nvPr/>
          </p:nvPicPr>
          <p:blipFill>
            <a:blip r:embed="rId6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3" name="COLADA_OFF.wmv" descr=""/>
          <p:cNvPicPr/>
          <p:nvPr/>
        </p:nvPicPr>
        <p:blipFill>
          <a:blip r:embed="rId7"/>
          <a:stretch/>
        </p:blipFill>
        <p:spPr>
          <a:xfrm>
            <a:off x="3867120" y="3214800"/>
            <a:ext cx="4133880" cy="3100320"/>
          </a:xfrm>
          <a:prstGeom prst="rect">
            <a:avLst/>
          </a:prstGeom>
          <a:ln w="0">
            <a:noFill/>
          </a:ln>
        </p:spPr>
      </p:pic>
      <p:sp>
        <p:nvSpPr>
          <p:cNvPr id="414" name="12 Rectángulo"/>
          <p:cNvSpPr/>
          <p:nvPr/>
        </p:nvSpPr>
        <p:spPr>
          <a:xfrm>
            <a:off x="3071880" y="157176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s el posicionamiento del bebedero, la colocación de las lingoteras, la preparación final y la revisión, se procede al vertido de la colada sobre el conjunt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15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14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417" name="14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37 Rectángulo"/>
          <p:cNvSpPr/>
          <p:nvPr/>
        </p:nvSpPr>
        <p:spPr>
          <a:xfrm>
            <a:off x="3071880" y="17938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1666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15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18 Rectángulo redondeado"/>
          <p:cNvSpPr/>
          <p:nvPr/>
        </p:nvSpPr>
        <p:spPr>
          <a:xfrm>
            <a:off x="3143160" y="3929040"/>
            <a:ext cx="5643720" cy="27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16 Rectángulo"/>
          <p:cNvSpPr/>
          <p:nvPr/>
        </p:nvSpPr>
        <p:spPr>
          <a:xfrm>
            <a:off x="3500280" y="4143240"/>
            <a:ext cx="5000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Calibri"/>
              </a:rPr>
              <a:t>Agradecimi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Agradecer el tiempo y la dedicación prestada del personal de Productos Tubulares, S.A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Andoni Urkijo – Directos de RRH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Javier Cabezas – Jefe de Fabric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20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424" name="2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21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427" name="2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22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430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23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433" name="23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24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436" name="24 Botón de acción: Documento" descr=""/>
            <p:cNvPicPr/>
            <p:nvPr/>
          </p:nvPicPr>
          <p:blipFill>
            <a:blip r:embed="rId5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25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26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0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32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442" name="32 Botón de acción: Inicio" descr=""/>
            <p:cNvPicPr/>
            <p:nvPr/>
          </p:nvPicPr>
          <p:blipFill>
            <a:blip r:embed="rId6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39 Rectángulo redondeado"/>
          <p:cNvSpPr/>
          <p:nvPr/>
        </p:nvSpPr>
        <p:spPr>
          <a:xfrm>
            <a:off x="3143160" y="1500120"/>
            <a:ext cx="5643720" cy="20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40 Rectángulo"/>
          <p:cNvSpPr/>
          <p:nvPr/>
        </p:nvSpPr>
        <p:spPr>
          <a:xfrm>
            <a:off x="3500280" y="1785960"/>
            <a:ext cx="52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Calibri"/>
              </a:rPr>
              <a:t>D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Trabajo de Campo: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5 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Entrevistas y Reuniones: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4.5 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Trabajo de Gabinete: 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8 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7 Rectángulo"/>
          <p:cNvSpPr/>
          <p:nvPr/>
        </p:nvSpPr>
        <p:spPr>
          <a:xfrm>
            <a:off x="3071880" y="17938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1666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:\Users\joseba\Desktop\DOCUMENTOS TRABAJO\LOGO\logo color.tif"/>
          <p:cNvPicPr/>
          <p:nvPr/>
        </p:nvPicPr>
        <p:blipFill>
          <a:blip r:embed="rId1"/>
          <a:stretch/>
        </p:blipFill>
        <p:spPr>
          <a:xfrm>
            <a:off x="4572000" y="4429080"/>
            <a:ext cx="2928960" cy="1515960"/>
          </a:xfrm>
          <a:prstGeom prst="rect">
            <a:avLst/>
          </a:prstGeom>
          <a:ln w="0">
            <a:noFill/>
          </a:ln>
        </p:spPr>
      </p:pic>
      <p:sp>
        <p:nvSpPr>
          <p:cNvPr id="90" name="20 Rectángulo redondeado"/>
          <p:cNvSpPr/>
          <p:nvPr/>
        </p:nvSpPr>
        <p:spPr>
          <a:xfrm>
            <a:off x="357120" y="1928880"/>
            <a:ext cx="2786040" cy="328608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286080"/>
              <a:gd name="textAreaBottom" fmla="*/ 3150360 h 3286080"/>
            </a:gdLst>
            <a:ahLst/>
            <a:rect l="textAreaLeft" t="textAreaTop" r="textAreaRight" b="textAreaBottom"/>
            <a:pathLst>
              <a:path w="21600" h="25476">
                <a:moveTo>
                  <a:pt x="3600" y="0"/>
                </a:moveTo>
                <a:arcTo wR="3600" hR="3600" stAng="16200000" swAng="-5400000"/>
                <a:lnTo>
                  <a:pt x="0" y="21876"/>
                </a:lnTo>
                <a:arcTo wR="3600" hR="3600" stAng="10800000" swAng="-5400000"/>
                <a:lnTo>
                  <a:pt x="18000" y="25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21 Rectángulo"/>
          <p:cNvSpPr/>
          <p:nvPr/>
        </p:nvSpPr>
        <p:spPr>
          <a:xfrm>
            <a:off x="642960" y="2165400"/>
            <a:ext cx="221472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Colabo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El presente documento es fruto del trabajo de colaboración entre Productos Tubulares, S.A. y la Federación Vizcaína de Empresas del Metal dentro del marco de trabajo del programa Leonardo da Vinci para la formación profes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C:\Users\joseba\Desktop\pt.gif"/>
          <p:cNvPicPr/>
          <p:nvPr/>
        </p:nvPicPr>
        <p:blipFill>
          <a:blip r:embed="rId2"/>
          <a:stretch/>
        </p:blipFill>
        <p:spPr>
          <a:xfrm>
            <a:off x="4286160" y="2357280"/>
            <a:ext cx="3799080" cy="965520"/>
          </a:xfrm>
          <a:prstGeom prst="rect">
            <a:avLst/>
          </a:prstGeom>
          <a:ln w="0">
            <a:noFill/>
          </a:ln>
        </p:spPr>
      </p:pic>
      <p:grpSp>
        <p:nvGrpSpPr>
          <p:cNvPr id="93" name="22 Botón de acción: Hacia delante o Siguiente"/>
          <p:cNvGrpSpPr/>
          <p:nvPr/>
        </p:nvGrpSpPr>
        <p:grpSpPr>
          <a:xfrm>
            <a:off x="725400" y="4608360"/>
            <a:ext cx="689040" cy="493920"/>
            <a:chOff x="725400" y="4608360"/>
            <a:chExt cx="689040" cy="493920"/>
          </a:xfrm>
        </p:grpSpPr>
        <p:pic>
          <p:nvPicPr>
            <p:cNvPr id="94" name="22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25400" y="4608360"/>
              <a:ext cx="68904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85880" y="4643280"/>
              <a:ext cx="571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 redondeado"/>
          <p:cNvSpPr/>
          <p:nvPr/>
        </p:nvSpPr>
        <p:spPr>
          <a:xfrm>
            <a:off x="357120" y="1928880"/>
            <a:ext cx="3929040" cy="457200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572000"/>
              <a:gd name="textAreaBottom" fmla="*/ 4380480 h 4572000"/>
            </a:gdLst>
            <a:ahLst/>
            <a:rect l="textAreaLeft" t="textAreaTop" r="textAreaRight" b="textAreaBottom"/>
            <a:pathLst>
              <a:path w="21600" h="25134">
                <a:moveTo>
                  <a:pt x="3600" y="0"/>
                </a:moveTo>
                <a:arcTo wR="3600" hR="3600" stAng="16200000" swAng="-5400000"/>
                <a:lnTo>
                  <a:pt x="0" y="21534"/>
                </a:lnTo>
                <a:arcTo wR="3600" hR="3600" stAng="10800000" swAng="-5400000"/>
                <a:lnTo>
                  <a:pt x="18000" y="251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3429000" y="85716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Introducción: Proyecto Kim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5 Rectángulo"/>
          <p:cNvSpPr/>
          <p:nvPr/>
        </p:nvSpPr>
        <p:spPr>
          <a:xfrm>
            <a:off x="642960" y="2165400"/>
            <a:ext cx="335772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Transferencia  del Conoc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El proyecto KIMET, pretende fomentar y desarrollar la formalización, capitalización y transmisión del conocimiento dentro de las Pymes del industriales, para fomentar la participación de los trabajadores/as experimentados (de mayor edad) en la evolución de las Pymes del Metal y facilitar la integración de los nuevos trabajadores/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Liderado por la FVEM y coordinado por Fondo Formación Euskadi, el proyecto está financiado por la Comisión europea en el marco de Transferencia de Innovación del Programa Leonardo da Vinci para la Formación Profesional y se desarrollará a lo largo de los años 2008-2010 de forma coordinada entre España, Francia, Holanda y Bulgaria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8 Rectángulo"/>
          <p:cNvSpPr/>
          <p:nvPr/>
        </p:nvSpPr>
        <p:spPr>
          <a:xfrm>
            <a:off x="5214960" y="2165400"/>
            <a:ext cx="335772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A quien esta dirigi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El proyecto KIMET, pretende fomentar y desarrollar la formalización, capitalización y transmisión del conocimiento dentro de las Pymes del industriales, para fomentar la participación de los trabajadores/as experimentados (de mayor edad) en la evolución de las Pymes del Metal y facilitar la integración de los nuevos trabajadores/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Liderado por la FVEM y coordinado por Fondo Formación Euskadi, el proyecto está financiado por la Comisión europea en el marco de Transferencia de Innovación del Programa Leonardo da Vinci para la Formación Profesional y se desarrollará a lo largo de los años 2008-2010 de forma coordinada entre España, Francia, Holanda y Bulgaria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9 Rectángulo redondeado"/>
          <p:cNvSpPr/>
          <p:nvPr/>
        </p:nvSpPr>
        <p:spPr>
          <a:xfrm>
            <a:off x="4857840" y="1928880"/>
            <a:ext cx="3929040" cy="457200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572000"/>
              <a:gd name="textAreaBottom" fmla="*/ 4380480 h 4572000"/>
            </a:gdLst>
            <a:ahLst/>
            <a:rect l="textAreaLeft" t="textAreaTop" r="textAreaRight" b="textAreaBottom"/>
            <a:pathLst>
              <a:path w="21600" h="25134">
                <a:moveTo>
                  <a:pt x="3600" y="0"/>
                </a:moveTo>
                <a:arcTo wR="3600" hR="3600" stAng="16200000" swAng="-5400000"/>
                <a:lnTo>
                  <a:pt x="0" y="21534"/>
                </a:lnTo>
                <a:arcTo wR="3600" hR="3600" stAng="10800000" swAng="-5400000"/>
                <a:lnTo>
                  <a:pt x="18000" y="251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3 Rectángulo"/>
          <p:cNvSpPr/>
          <p:nvPr/>
        </p:nvSpPr>
        <p:spPr>
          <a:xfrm>
            <a:off x="5143680" y="21430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4 Rectángulo"/>
          <p:cNvSpPr/>
          <p:nvPr/>
        </p:nvSpPr>
        <p:spPr>
          <a:xfrm>
            <a:off x="5143680" y="2143080"/>
            <a:ext cx="335736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A quien está Dirigi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Esta formalización y transmisión del conocimiento está dirigido a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Los/as trabajadores de mayor edad que tendrán un reconocimiento explici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Aquellos que sean de reciente incorporación con altos conocimientos teóricos pero faltos de experiencia, que conseguirán una adaptación mas rápida y flexible a las nuevas situaciones de trabaj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Las empresas, que reforzarán su competitividad al capilarizar y gestionar su conocimiento, combinandolo de esa manera con acciones formativa.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0 Rectángulo redondeado"/>
          <p:cNvGrpSpPr/>
          <p:nvPr/>
        </p:nvGrpSpPr>
        <p:grpSpPr>
          <a:xfrm>
            <a:off x="1438200" y="5821200"/>
            <a:ext cx="1476360" cy="609840"/>
            <a:chOff x="1438200" y="5821200"/>
            <a:chExt cx="1476360" cy="609840"/>
          </a:xfrm>
        </p:grpSpPr>
        <p:pic>
          <p:nvPicPr>
            <p:cNvPr id="105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438200" y="5821200"/>
              <a:ext cx="14763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523880" y="588168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11 Botón de acción: Hacia delante o Siguiente"/>
          <p:cNvGrpSpPr/>
          <p:nvPr/>
        </p:nvGrpSpPr>
        <p:grpSpPr>
          <a:xfrm>
            <a:off x="2225520" y="5894280"/>
            <a:ext cx="689040" cy="463680"/>
            <a:chOff x="2225520" y="5894280"/>
            <a:chExt cx="689040" cy="463680"/>
          </a:xfrm>
        </p:grpSpPr>
        <p:pic>
          <p:nvPicPr>
            <p:cNvPr id="108" name="11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2225520" y="5894280"/>
              <a:ext cx="689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286000" y="5929200"/>
              <a:ext cx="571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12 Botón de acción: Hacia atrás o Anterior"/>
          <p:cNvGrpSpPr/>
          <p:nvPr/>
        </p:nvGrpSpPr>
        <p:grpSpPr>
          <a:xfrm>
            <a:off x="1438200" y="5894280"/>
            <a:ext cx="689040" cy="463680"/>
            <a:chOff x="1438200" y="5894280"/>
            <a:chExt cx="689040" cy="463680"/>
          </a:xfrm>
        </p:grpSpPr>
        <p:pic>
          <p:nvPicPr>
            <p:cNvPr id="111" name="12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438200" y="5894280"/>
              <a:ext cx="689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00120" y="5929200"/>
              <a:ext cx="571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Rectángulo redondeado"/>
          <p:cNvSpPr/>
          <p:nvPr/>
        </p:nvSpPr>
        <p:spPr>
          <a:xfrm>
            <a:off x="357120" y="2428920"/>
            <a:ext cx="392904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ASE 1.-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nvestigación y Análisis de información sobre de las prácticas existentes acerca de la formalización y transmisión del conocimiento dentro de las PYMES. Dificult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4 Rectángulo"/>
          <p:cNvSpPr/>
          <p:nvPr/>
        </p:nvSpPr>
        <p:spPr>
          <a:xfrm>
            <a:off x="3429000" y="85716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Fases del Proyecto Kim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9 Rectángulo redondeado"/>
          <p:cNvSpPr/>
          <p:nvPr/>
        </p:nvSpPr>
        <p:spPr>
          <a:xfrm>
            <a:off x="4500720" y="2500200"/>
            <a:ext cx="3929040" cy="285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ASE 2.-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xperimentación en empresa de técnicas de formalización y transmisión del conocimi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Calibri"/>
              </a:rPr>
              <a:t>- Empresa colaboradora: Productos Tubulares, S.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Calibri"/>
              </a:rPr>
              <a:t>- Proceso seleccionado: Proceso de Colada Sifó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13 Rectángulo"/>
          <p:cNvSpPr/>
          <p:nvPr/>
        </p:nvSpPr>
        <p:spPr>
          <a:xfrm>
            <a:off x="5143680" y="21430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15 Rectángulo redondeado"/>
          <p:cNvGrpSpPr/>
          <p:nvPr/>
        </p:nvGrpSpPr>
        <p:grpSpPr>
          <a:xfrm>
            <a:off x="1011240" y="5462640"/>
            <a:ext cx="1469880" cy="609480"/>
            <a:chOff x="1011240" y="5462640"/>
            <a:chExt cx="1469880" cy="609480"/>
          </a:xfrm>
        </p:grpSpPr>
        <p:pic>
          <p:nvPicPr>
            <p:cNvPr id="119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011240" y="5462640"/>
              <a:ext cx="1469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95480" y="552456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16 Botón de acción: Hacia delante o Siguiente"/>
          <p:cNvGrpSpPr/>
          <p:nvPr/>
        </p:nvGrpSpPr>
        <p:grpSpPr>
          <a:xfrm>
            <a:off x="1798560" y="5535720"/>
            <a:ext cx="682560" cy="468360"/>
            <a:chOff x="1798560" y="5535720"/>
            <a:chExt cx="682560" cy="468360"/>
          </a:xfrm>
        </p:grpSpPr>
        <p:pic>
          <p:nvPicPr>
            <p:cNvPr id="122" name="16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8560" y="5535720"/>
              <a:ext cx="682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857240" y="557208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17 Botón de acción: Hacia atrás o Anterior"/>
          <p:cNvGrpSpPr/>
          <p:nvPr/>
        </p:nvGrpSpPr>
        <p:grpSpPr>
          <a:xfrm>
            <a:off x="1011240" y="5535720"/>
            <a:ext cx="689040" cy="468360"/>
            <a:chOff x="1011240" y="5535720"/>
            <a:chExt cx="689040" cy="468360"/>
          </a:xfrm>
        </p:grpSpPr>
        <p:pic>
          <p:nvPicPr>
            <p:cNvPr id="125" name="17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011240" y="5535720"/>
              <a:ext cx="6890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071720" y="557208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Rectángulo redondeado"/>
          <p:cNvSpPr/>
          <p:nvPr/>
        </p:nvSpPr>
        <p:spPr>
          <a:xfrm>
            <a:off x="357120" y="1928880"/>
            <a:ext cx="850104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5 Rectángulo"/>
          <p:cNvSpPr/>
          <p:nvPr/>
        </p:nvSpPr>
        <p:spPr>
          <a:xfrm>
            <a:off x="714240" y="2289240"/>
            <a:ext cx="7858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Tareas del proceso Colada Sifón</a:t>
            </a:r>
            <a:r>
              <a:rPr b="0" i="1" lang="es-ES" sz="1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PREPARACIÓN DE PLACAS DE COL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olocación del bebede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olocación de lingote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eparación final + revi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Vert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Nos centraremos en el proceso de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PREPARACIÓN  DE PLACAS DE COL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3 Rectángulo"/>
          <p:cNvSpPr/>
          <p:nvPr/>
        </p:nvSpPr>
        <p:spPr>
          <a:xfrm>
            <a:off x="5143680" y="21430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10 Rectángulo"/>
          <p:cNvSpPr/>
          <p:nvPr/>
        </p:nvSpPr>
        <p:spPr>
          <a:xfrm>
            <a:off x="3429000" y="85716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Proceso de estudio: Colada Sif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7 Rectángulo redondeado"/>
          <p:cNvGrpSpPr/>
          <p:nvPr/>
        </p:nvGrpSpPr>
        <p:grpSpPr>
          <a:xfrm>
            <a:off x="1011240" y="5321160"/>
            <a:ext cx="1469880" cy="609840"/>
            <a:chOff x="1011240" y="5321160"/>
            <a:chExt cx="1469880" cy="609840"/>
          </a:xfrm>
        </p:grpSpPr>
        <p:pic>
          <p:nvPicPr>
            <p:cNvPr id="133" name="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011240" y="5321160"/>
              <a:ext cx="1469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095480" y="53816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8 Botón de acción: Hacia delante o Siguiente"/>
          <p:cNvGrpSpPr/>
          <p:nvPr/>
        </p:nvGrpSpPr>
        <p:grpSpPr>
          <a:xfrm>
            <a:off x="1798560" y="5394240"/>
            <a:ext cx="682560" cy="463680"/>
            <a:chOff x="1798560" y="5394240"/>
            <a:chExt cx="682560" cy="463680"/>
          </a:xfrm>
        </p:grpSpPr>
        <p:pic>
          <p:nvPicPr>
            <p:cNvPr id="136" name="8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8560" y="5394240"/>
              <a:ext cx="6825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57240" y="542916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9 Botón de acción: Hacia atrás o Anterior"/>
          <p:cNvGrpSpPr/>
          <p:nvPr/>
        </p:nvGrpSpPr>
        <p:grpSpPr>
          <a:xfrm>
            <a:off x="1011240" y="5394240"/>
            <a:ext cx="689040" cy="463680"/>
            <a:chOff x="1011240" y="5394240"/>
            <a:chExt cx="689040" cy="463680"/>
          </a:xfrm>
        </p:grpSpPr>
        <p:pic>
          <p:nvPicPr>
            <p:cNvPr id="139" name="9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011240" y="5394240"/>
              <a:ext cx="689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071720" y="542916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4 Diagrama" descr=""/>
          <p:cNvPicPr/>
          <p:nvPr/>
        </p:nvPicPr>
        <p:blipFill>
          <a:blip r:embed="rId1"/>
          <a:stretch/>
        </p:blipFill>
        <p:spPr>
          <a:xfrm>
            <a:off x="3938760" y="2036880"/>
            <a:ext cx="4046400" cy="4535280"/>
          </a:xfrm>
          <a:prstGeom prst="rect">
            <a:avLst/>
          </a:prstGeom>
          <a:ln w="0">
            <a:noFill/>
          </a:ln>
        </p:spPr>
      </p:pic>
      <p:sp>
        <p:nvSpPr>
          <p:cNvPr id="142" name="4 Rectángulo"/>
          <p:cNvSpPr/>
          <p:nvPr/>
        </p:nvSpPr>
        <p:spPr>
          <a:xfrm>
            <a:off x="3143160" y="1000080"/>
            <a:ext cx="480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 u="sng">
                <a:solidFill>
                  <a:srgbClr val="7f7f7f"/>
                </a:solidFill>
                <a:uFillTx/>
                <a:latin typeface="Calibri"/>
              </a:rPr>
              <a:t>Preparación de Placas de Colad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20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144" name="2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21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147" name="2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24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150" name="24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30 Rectángulo"/>
          <p:cNvSpPr/>
          <p:nvPr/>
        </p:nvSpPr>
        <p:spPr>
          <a:xfrm>
            <a:off x="4219560" y="16430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7f7f7f"/>
                </a:solidFill>
                <a:latin typeface="Calibri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8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154" name="8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9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10 Rectángulo"/>
          <p:cNvSpPr/>
          <p:nvPr/>
        </p:nvSpPr>
        <p:spPr>
          <a:xfrm>
            <a:off x="6096240" y="16430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7f7f7f"/>
                </a:solidFill>
                <a:latin typeface="Calibri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11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159" name="11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12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162" name="12 Botón de acción: Documento" descr=""/>
            <p:cNvPicPr/>
            <p:nvPr/>
          </p:nvPicPr>
          <p:blipFill>
            <a:blip r:embed="rId7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15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16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2 Rectángulo"/>
          <p:cNvSpPr/>
          <p:nvPr/>
        </p:nvSpPr>
        <p:spPr>
          <a:xfrm>
            <a:off x="3071880" y="1793880"/>
            <a:ext cx="5715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Limpieza de la placa (cascotes, arena y rab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Colocación en zona próxima a ladrill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Revisión de estado/deformación/rotura de la plac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jar espacio entre placas para el acceso de los bulones de la grú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tención  a la temperatura de la placa durante la manipu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tención al trayecto descrito  por la grú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3861360" y="117144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1.-Limpieza y Posicionamiento de Pla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LOCACION_PLACA_OFF.wmv" descr=""/>
          <p:cNvPicPr/>
          <p:nvPr/>
        </p:nvPicPr>
        <p:blipFill>
          <a:blip r:embed="rId1"/>
          <a:stretch/>
        </p:blipFill>
        <p:spPr>
          <a:xfrm>
            <a:off x="4357800" y="4089240"/>
            <a:ext cx="3214440" cy="2411640"/>
          </a:xfrm>
          <a:prstGeom prst="rect">
            <a:avLst/>
          </a:prstGeom>
          <a:ln w="0">
            <a:noFill/>
          </a:ln>
        </p:spPr>
      </p:pic>
      <p:grpSp>
        <p:nvGrpSpPr>
          <p:cNvPr id="169" name="35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170" name="3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36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173" name="3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37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176" name="3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38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179" name="38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39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182" name="39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41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185" name="41 Botón de acción: Documento" descr=""/>
            <p:cNvPicPr/>
            <p:nvPr/>
          </p:nvPicPr>
          <p:blipFill>
            <a:blip r:embed="rId7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42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43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44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46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191" name="46 Botón de acción: Inicio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1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2 Rectángulo"/>
          <p:cNvSpPr/>
          <p:nvPr/>
        </p:nvSpPr>
        <p:spPr>
          <a:xfrm>
            <a:off x="3071880" y="1285920"/>
            <a:ext cx="56433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elección de los ladrillos y placa adecuada según configuración establecida por el Dep. de Planificación y Fabricació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Posicionamiento de los ladrillos al lado de los canales, según hoja de trabajo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erificar el buen estado de los ladrillos y reina y la propiedad de pasantes de los mism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166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probar que la temperatura de la placa es apta para ser manej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5 Rectángulo"/>
          <p:cNvSpPr/>
          <p:nvPr/>
        </p:nvSpPr>
        <p:spPr>
          <a:xfrm>
            <a:off x="3866760" y="1171440"/>
            <a:ext cx="39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2.- Configuración Inicial de Ladri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7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197" name="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18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200" name="1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19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203" name="1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20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206" name="20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21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209" name="21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23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212" name="23 Botón de acción: Documento" descr=""/>
            <p:cNvPicPr/>
            <p:nvPr/>
          </p:nvPicPr>
          <p:blipFill>
            <a:blip r:embed="rId6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24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25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26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28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218" name="28 Botón de acción: Inicio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COLOCACION_LADRILLOS_ON.AVI" descr=""/>
          <p:cNvPicPr/>
          <p:nvPr/>
        </p:nvPicPr>
        <p:blipFill>
          <a:blip r:embed="rId9"/>
          <a:stretch/>
        </p:blipFill>
        <p:spPr>
          <a:xfrm>
            <a:off x="6262560" y="478620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221" name="CONFIG._LADRILLOS.wmv" descr=""/>
          <p:cNvPicPr/>
          <p:nvPr/>
        </p:nvPicPr>
        <p:blipFill>
          <a:blip r:embed="rId10"/>
          <a:stretch/>
        </p:blipFill>
        <p:spPr>
          <a:xfrm>
            <a:off x="3357720" y="4786200"/>
            <a:ext cx="2357280" cy="1768680"/>
          </a:xfrm>
          <a:prstGeom prst="rect">
            <a:avLst/>
          </a:prstGeom>
          <a:ln w="0">
            <a:noFill/>
          </a:ln>
        </p:spPr>
      </p:pic>
      <p:sp>
        <p:nvSpPr>
          <p:cNvPr id="222" name="36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7 Rectángulo"/>
          <p:cNvSpPr/>
          <p:nvPr/>
        </p:nvSpPr>
        <p:spPr>
          <a:xfrm>
            <a:off x="3863880" y="117144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7f7f7f"/>
                </a:solidFill>
                <a:latin typeface="Calibri"/>
              </a:rPr>
              <a:t>3.- Distribución de Are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AREANA_OFF.wmv" descr=""/>
          <p:cNvPicPr/>
          <p:nvPr/>
        </p:nvPicPr>
        <p:blipFill>
          <a:blip r:embed="rId1"/>
          <a:stretch/>
        </p:blipFill>
        <p:spPr>
          <a:xfrm>
            <a:off x="4572000" y="4714920"/>
            <a:ext cx="2714760" cy="2036880"/>
          </a:xfrm>
          <a:prstGeom prst="rect">
            <a:avLst/>
          </a:prstGeom>
          <a:ln w="0">
            <a:noFill/>
          </a:ln>
        </p:spPr>
      </p:pic>
      <p:grpSp>
        <p:nvGrpSpPr>
          <p:cNvPr id="225" name="28 Rectángulo redondeado"/>
          <p:cNvGrpSpPr/>
          <p:nvPr/>
        </p:nvGrpSpPr>
        <p:grpSpPr>
          <a:xfrm>
            <a:off x="365040" y="2462040"/>
            <a:ext cx="1762200" cy="2822760"/>
            <a:chOff x="365040" y="2462040"/>
            <a:chExt cx="1762200" cy="2822760"/>
          </a:xfrm>
        </p:grpSpPr>
        <p:pic>
          <p:nvPicPr>
            <p:cNvPr id="226" name="2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65040" y="2462040"/>
              <a:ext cx="17622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9760" y="2581200"/>
              <a:ext cx="14810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29 Rectángulo redondeado"/>
          <p:cNvGrpSpPr/>
          <p:nvPr/>
        </p:nvGrpSpPr>
        <p:grpSpPr>
          <a:xfrm>
            <a:off x="512640" y="4395960"/>
            <a:ext cx="1468440" cy="609480"/>
            <a:chOff x="512640" y="4395960"/>
            <a:chExt cx="1468440" cy="609480"/>
          </a:xfrm>
        </p:grpSpPr>
        <p:pic>
          <p:nvPicPr>
            <p:cNvPr id="229" name="29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4395960"/>
              <a:ext cx="1468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95440" y="4452840"/>
              <a:ext cx="13096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30 Rectángulo redondeado"/>
          <p:cNvGrpSpPr/>
          <p:nvPr/>
        </p:nvGrpSpPr>
        <p:grpSpPr>
          <a:xfrm>
            <a:off x="512640" y="2889360"/>
            <a:ext cx="1468440" cy="1116000"/>
            <a:chOff x="512640" y="2889360"/>
            <a:chExt cx="1468440" cy="1116000"/>
          </a:xfrm>
        </p:grpSpPr>
        <p:pic>
          <p:nvPicPr>
            <p:cNvPr id="232" name="30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12640" y="2889360"/>
              <a:ext cx="14684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20640" y="297828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31 Botón de acción: Hacia delante o Siguiente"/>
          <p:cNvGrpSpPr/>
          <p:nvPr/>
        </p:nvGrpSpPr>
        <p:grpSpPr>
          <a:xfrm>
            <a:off x="1298520" y="4462560"/>
            <a:ext cx="682560" cy="469800"/>
            <a:chOff x="1298520" y="4462560"/>
            <a:chExt cx="682560" cy="469800"/>
          </a:xfrm>
        </p:grpSpPr>
        <p:pic>
          <p:nvPicPr>
            <p:cNvPr id="235" name="31 Botón de acción: Hacia delante o Siguiente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1298520" y="4462560"/>
              <a:ext cx="682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357200" y="4500720"/>
              <a:ext cx="57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32 Botón de acción: Hacia atrás o Anterior"/>
          <p:cNvGrpSpPr/>
          <p:nvPr/>
        </p:nvGrpSpPr>
        <p:grpSpPr>
          <a:xfrm>
            <a:off x="512640" y="4462560"/>
            <a:ext cx="682920" cy="469800"/>
            <a:chOff x="512640" y="4462560"/>
            <a:chExt cx="682920" cy="469800"/>
          </a:xfrm>
        </p:grpSpPr>
        <p:pic>
          <p:nvPicPr>
            <p:cNvPr id="238" name="32 Botón de acción: Hacia atrás o Anterior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512640" y="4462560"/>
              <a:ext cx="682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71680" y="4500720"/>
              <a:ext cx="57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34 Botón de acción: Documento"/>
          <p:cNvGrpSpPr/>
          <p:nvPr/>
        </p:nvGrpSpPr>
        <p:grpSpPr>
          <a:xfrm>
            <a:off x="512640" y="3395520"/>
            <a:ext cx="682920" cy="609840"/>
            <a:chOff x="512640" y="3395520"/>
            <a:chExt cx="682920" cy="609840"/>
          </a:xfrm>
        </p:grpSpPr>
        <p:pic>
          <p:nvPicPr>
            <p:cNvPr id="241" name="34 Botón de acción: Documento" descr=""/>
            <p:cNvPicPr/>
            <p:nvPr/>
          </p:nvPicPr>
          <p:blipFill>
            <a:blip r:embed="rId7"/>
            <a:stretch/>
          </p:blipFill>
          <p:spPr>
            <a:xfrm>
              <a:off x="512640" y="3395520"/>
              <a:ext cx="6829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71680" y="342900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35 Rectángulo"/>
          <p:cNvSpPr/>
          <p:nvPr/>
        </p:nvSpPr>
        <p:spPr>
          <a:xfrm>
            <a:off x="1217520" y="30481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6 Rectángulo"/>
          <p:cNvSpPr/>
          <p:nvPr/>
        </p:nvSpPr>
        <p:spPr>
          <a:xfrm>
            <a:off x="1258920" y="35100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2f2f2"/>
                </a:solidFill>
                <a:latin typeface="Calibri"/>
              </a:rPr>
              <a:t>Do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7 Conector recto"/>
          <p:cNvSpPr/>
          <p:nvPr/>
        </p:nvSpPr>
        <p:spPr>
          <a:xfrm>
            <a:off x="571680" y="3419640"/>
            <a:ext cx="13572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38 Botón de acción: Inicio"/>
          <p:cNvGrpSpPr/>
          <p:nvPr/>
        </p:nvGrpSpPr>
        <p:grpSpPr>
          <a:xfrm>
            <a:off x="512640" y="2889360"/>
            <a:ext cx="682920" cy="615960"/>
            <a:chOff x="512640" y="2889360"/>
            <a:chExt cx="682920" cy="615960"/>
          </a:xfrm>
        </p:grpSpPr>
        <p:pic>
          <p:nvPicPr>
            <p:cNvPr id="247" name="38 Botón de acción: Inicio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12640" y="288936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71680" y="2928960"/>
              <a:ext cx="571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42 Rectángulo"/>
          <p:cNvSpPr/>
          <p:nvPr/>
        </p:nvSpPr>
        <p:spPr>
          <a:xfrm>
            <a:off x="3071880" y="1214280"/>
            <a:ext cx="564336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e procede a la distribución de arena sobre la placa para su posterior uso como “cama” de los ladrillos y relleno entre ladrillos y pared de plac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e utiliza arena por dos razona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o material de relleno del canal para dar flexibilidad a la estructura de ladrillos cuando estos se dilaten por el calor de la colada, evitando que rompan</a:t>
            </a:r>
            <a:r>
              <a:rPr b="0" lang="es-ES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ra que la estructura de ladrillos quede en altura “al ras” con la superficie de la placa (factor importan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66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vertenc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erter la arena entre canales de la placa para evitar la saturación del conducto y  trabajar, a posteriori, en su extracción por exce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181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lacas más viejas suelen necesitar más are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181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14 Rectángulo"/>
          <p:cNvSpPr/>
          <p:nvPr/>
        </p:nvSpPr>
        <p:spPr>
          <a:xfrm>
            <a:off x="8522280" y="66117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C-Sal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8:55:36Z</dcterms:created>
  <dc:creator>joseba</dc:creator>
  <dc:description/>
  <dc:language>en-US</dc:language>
  <cp:lastModifiedBy>Name</cp:lastModifiedBy>
  <dcterms:modified xsi:type="dcterms:W3CDTF">2010-09-09T13:59:23Z</dcterms:modified>
  <cp:revision>219</cp:revision>
  <dc:subject/>
  <dc:title>Diapositiva 1</dc:title>
</cp:coreProperties>
</file>